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15AF4A26-90C9-4C04-830C-9E362E0CEE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62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6  TTÜ             T.Tammet        loeng 10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B222E727-E99D-491B-8A11-712319C47D0F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XSTONE/RQL example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9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191120" y="2506680"/>
            <a:ext cx="2438280" cy="241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91120" y="1822320"/>
            <a:ext cx="380880" cy="3938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666880" y="3117600"/>
            <a:ext cx="533520" cy="54612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257800"/>
            <a:ext cx="83844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3124080"/>
            <a:ext cx="838080" cy="8384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523880"/>
            <a:ext cx="83844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523880"/>
            <a:ext cx="83808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2767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5960" y="62485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09880" y="61722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584080" y="3727440"/>
            <a:ext cx="1079640" cy="241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800600"/>
            <a:ext cx="6858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2880" y="44197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736720" y="4876920"/>
            <a:ext cx="77472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6560" y="392760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ul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qlgand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269880" y="2430360"/>
            <a:ext cx="622440" cy="851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46760" y="3657600"/>
            <a:ext cx="115560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24280" y="2430360"/>
            <a:ext cx="381240" cy="851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54920" y="4079880"/>
            <a:ext cx="29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160" y="99072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 toolkit on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040" y="990720"/>
            <a:ext cx="41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 ui toolkit on 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 näide ühest eesti registr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12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191120" y="2506680"/>
            <a:ext cx="2438280" cy="241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191120" y="1822320"/>
            <a:ext cx="380880" cy="3938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3117600"/>
            <a:ext cx="533520" cy="54612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50292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410080"/>
            <a:ext cx="838080" cy="990720"/>
          </a:xfrm>
          <a:prstGeom prst="can">
            <a:avLst>
              <a:gd name="adj" fmla="val 30726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9718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200" y="502920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38800" y="5025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598400" y="4798800"/>
            <a:ext cx="231480" cy="231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4800600"/>
            <a:ext cx="6858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76760" y="456876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736720" y="4876920"/>
            <a:ext cx="77472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2560" y="22860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des vä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284200" y="2284200"/>
            <a:ext cx="1608120" cy="9968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18040" y="3429000"/>
            <a:ext cx="115560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656160" y="2284560"/>
            <a:ext cx="460080" cy="917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720" y="973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7840" y="1201680"/>
            <a:ext cx="27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 ui tool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5105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4800600"/>
            <a:ext cx="6858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5486400"/>
            <a:ext cx="9144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52840" y="5257800"/>
            <a:ext cx="116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gu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l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2680" y="9144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nevad teeg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5680" y="4114800"/>
            <a:ext cx="114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t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912600" y="3884400"/>
            <a:ext cx="231480" cy="231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360" y="9144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572000" y="2284560"/>
            <a:ext cx="228600" cy="917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16002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029200" y="2513160"/>
            <a:ext cx="1143000" cy="917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018040" y="4113000"/>
            <a:ext cx="1155600" cy="231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13400" y="36576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4040" y="2743200"/>
            <a:ext cx="115560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7303680" y="4265640"/>
            <a:ext cx="1384200" cy="79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3259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kompo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: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tekstitöötlus, raamatupidamise tarkvara, malemängu programmid jms), mida tihti, kuid mitte alati, saab juhtida ja mõne teise tarkvarapaketiga programmiliselt sidu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7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65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ndmebaasiserverid, www-serverid, mailiserverid, graafikaserverid nagu X11, operatsioonisüsteem ise jn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programme saab põhimõtteliselt küll kasutada iseseisvalt, ilma millegita sidumata, kuid tüüpiliselt ehitatakse lõppkasutaja jaoks eraldi spetsiaalne rakendus, mis omakorda kasutab neid suuri valmiskomponente, a l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”””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‘%Jaan%’”””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“id: “,i[0],”name: “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8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kreetseid, piiratud funktsio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graafika joonistamine ekraanile, aritmeetika, failide lugemine ja kirjutamine, internetiühenduse käivitamine mingile aadressile jms)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, nn teegid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s kompilaatorite ja muude tarkvara-arendusvahenditega ning nad on enamasti 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8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1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 mida keel paku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9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143000" y="1676520"/>
            <a:ext cx="3809880" cy="2361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3352680"/>
            <a:ext cx="380988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1981080"/>
            <a:ext cx="381024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584360" y="2270160"/>
            <a:ext cx="2244600" cy="338040"/>
            <a:chOff x="1584360" y="2270160"/>
            <a:chExt cx="2244600" cy="338040"/>
          </a:xfrm>
        </p:grpSpPr>
        <p:sp>
          <p:nvSpPr>
            <p:cNvPr id="200" name=""/>
            <p:cNvSpPr/>
            <p:nvPr/>
          </p:nvSpPr>
          <p:spPr>
            <a:xfrm>
              <a:off x="1584360" y="2270160"/>
              <a:ext cx="212868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3600" y="227016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18280" y="2422440"/>
            <a:ext cx="1110240" cy="338040"/>
            <a:chOff x="5318280" y="2422440"/>
            <a:chExt cx="1110240" cy="338040"/>
          </a:xfrm>
        </p:grpSpPr>
        <p:sp>
          <p:nvSpPr>
            <p:cNvPr id="203" name=""/>
            <p:cNvSpPr/>
            <p:nvPr/>
          </p:nvSpPr>
          <p:spPr>
            <a:xfrm>
              <a:off x="5318280" y="2422440"/>
              <a:ext cx="108720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47800" y="242244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79640" y="4632480"/>
            <a:ext cx="1718280" cy="338040"/>
            <a:chOff x="2879640" y="4632480"/>
            <a:chExt cx="1718280" cy="338040"/>
          </a:xfrm>
        </p:grpSpPr>
        <p:sp>
          <p:nvSpPr>
            <p:cNvPr id="206" name=""/>
            <p:cNvSpPr/>
            <p:nvPr/>
          </p:nvSpPr>
          <p:spPr>
            <a:xfrm>
              <a:off x="2879640" y="4632480"/>
              <a:ext cx="1673280" cy="3362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32200" y="463248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794040" y="5040360"/>
            <a:ext cx="1896840" cy="307800"/>
            <a:chOff x="3794040" y="5040360"/>
            <a:chExt cx="1896840" cy="307800"/>
          </a:xfrm>
        </p:grpSpPr>
        <p:sp>
          <p:nvSpPr>
            <p:cNvPr id="209" name=""/>
            <p:cNvSpPr/>
            <p:nvPr/>
          </p:nvSpPr>
          <p:spPr>
            <a:xfrm>
              <a:off x="3794040" y="5040360"/>
              <a:ext cx="18669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0240" y="5040360"/>
              <a:ext cx="18806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65640" y="2830680"/>
            <a:ext cx="1877400" cy="307800"/>
            <a:chOff x="5165640" y="2830680"/>
            <a:chExt cx="1877400" cy="307800"/>
          </a:xfrm>
        </p:grpSpPr>
        <p:sp>
          <p:nvSpPr>
            <p:cNvPr id="212" name=""/>
            <p:cNvSpPr/>
            <p:nvPr/>
          </p:nvSpPr>
          <p:spPr>
            <a:xfrm>
              <a:off x="5165640" y="2830680"/>
              <a:ext cx="184968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2200" y="2830680"/>
              <a:ext cx="18608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433520" y="2664000"/>
            <a:ext cx="2187000" cy="307800"/>
            <a:chOff x="1433520" y="2664000"/>
            <a:chExt cx="2187000" cy="307800"/>
          </a:xfrm>
        </p:grpSpPr>
        <p:sp>
          <p:nvSpPr>
            <p:cNvPr id="215" name=""/>
            <p:cNvSpPr/>
            <p:nvPr/>
          </p:nvSpPr>
          <p:spPr>
            <a:xfrm>
              <a:off x="1433520" y="2664000"/>
              <a:ext cx="213516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70240" y="2664000"/>
              <a:ext cx="2150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malltalk, 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286000" y="297180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mperatiiv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2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algoritmilised ja kirjelduskeel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C++, Basic, COBOL, Java, Lisp, assembler .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ML, RDF, XML, SQL, 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rraga mõlemat: loogik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, algoritmilise keele abil töödeldakse kirjeldus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Javascript ja HTML.,   C ja SQL, 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2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505320" y="3809880"/>
            <a:ext cx="29718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3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rakendustee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 keeli EI SISALDA STANDARDSEID TEEKE või need teegid on äärmiselt piir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: ANSI C. ANSI C teek sisaldab stringtöötlust, failitöötlus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 95, Windows NT, X windows, Linux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 ainus eran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2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UNIXi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Delphi, 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Java, Perl, PHP, Python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3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CVS, subversion, jn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3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 ja pere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radigmad, vaated, rakendusvald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use filosoofi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36640" y="376200"/>
            <a:ext cx="7769160" cy="309600"/>
            <a:chOff x="836640" y="376200"/>
            <a:chExt cx="7769160" cy="309600"/>
          </a:xfrm>
        </p:grpSpPr>
        <p:sp>
          <p:nvSpPr>
            <p:cNvPr id="55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sed vaat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tootmise organiseer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4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91120" y="3727080"/>
            <a:ext cx="1066680" cy="10796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45-1970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70-1995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95-2020?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Süstee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5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258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8080" y="604800"/>
            <a:ext cx="7769520" cy="309600"/>
            <a:chOff x="838080" y="604800"/>
            <a:chExt cx="7769520" cy="309600"/>
          </a:xfrm>
        </p:grpSpPr>
        <p:sp>
          <p:nvSpPr>
            <p:cNvPr id="263" name=""/>
            <p:cNvSpPr/>
            <p:nvPr/>
          </p:nvSpPr>
          <p:spPr>
            <a:xfrm>
              <a:off x="838080" y="9097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605800" y="6048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828800" y="3429000"/>
            <a:ext cx="298440" cy="303120"/>
            <a:chOff x="1828800" y="3429000"/>
            <a:chExt cx="298440" cy="303120"/>
          </a:xfrm>
        </p:grpSpPr>
        <p:sp>
          <p:nvSpPr>
            <p:cNvPr id="266" name=""/>
            <p:cNvSpPr/>
            <p:nvPr/>
          </p:nvSpPr>
          <p:spPr>
            <a:xfrm>
              <a:off x="1828800" y="3429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28800" y="3429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52720" y="34290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270" name=""/>
            <p:cNvSpPr/>
            <p:nvPr/>
          </p:nvSpPr>
          <p:spPr>
            <a:xfrm>
              <a:off x="5181480" y="2514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1480" y="2514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05400" y="2514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274" name=""/>
            <p:cNvSpPr/>
            <p:nvPr/>
          </p:nvSpPr>
          <p:spPr>
            <a:xfrm>
              <a:off x="3200400" y="35812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00400" y="35812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4320" y="35812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278" name=""/>
            <p:cNvSpPr/>
            <p:nvPr/>
          </p:nvSpPr>
          <p:spPr>
            <a:xfrm>
              <a:off x="4648320" y="350532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48320" y="350532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1880" y="350532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282" name=""/>
            <p:cNvSpPr/>
            <p:nvPr/>
          </p:nvSpPr>
          <p:spPr>
            <a:xfrm>
              <a:off x="6248520" y="3657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3657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2080" y="36576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600200" y="5257800"/>
            <a:ext cx="298440" cy="303120"/>
            <a:chOff x="1600200" y="5257800"/>
            <a:chExt cx="298440" cy="303120"/>
          </a:xfrm>
        </p:grpSpPr>
        <p:sp>
          <p:nvSpPr>
            <p:cNvPr id="286" name=""/>
            <p:cNvSpPr/>
            <p:nvPr/>
          </p:nvSpPr>
          <p:spPr>
            <a:xfrm>
              <a:off x="1600200" y="52578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00200" y="52578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4120" y="52578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290" name=""/>
            <p:cNvSpPr/>
            <p:nvPr/>
          </p:nvSpPr>
          <p:spPr>
            <a:xfrm>
              <a:off x="3352680" y="27432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52680" y="27432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6600" y="27432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294" name=""/>
            <p:cNvSpPr/>
            <p:nvPr/>
          </p:nvSpPr>
          <p:spPr>
            <a:xfrm>
              <a:off x="3886200" y="5181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181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10120" y="5181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298" name=""/>
            <p:cNvSpPr/>
            <p:nvPr/>
          </p:nvSpPr>
          <p:spPr>
            <a:xfrm>
              <a:off x="5486400" y="4800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86400" y="4800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10320" y="4800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302" name=""/>
            <p:cNvSpPr/>
            <p:nvPr/>
          </p:nvSpPr>
          <p:spPr>
            <a:xfrm>
              <a:off x="3048120" y="4572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48120" y="4572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71680" y="45720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306" name=""/>
            <p:cNvSpPr/>
            <p:nvPr/>
          </p:nvSpPr>
          <p:spPr>
            <a:xfrm>
              <a:off x="5867280" y="1752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67280" y="1752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1200" y="1752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133720" y="3041640"/>
            <a:ext cx="122076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76520" y="3727080"/>
            <a:ext cx="228600" cy="15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05120" y="4870080"/>
            <a:ext cx="121896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172200" y="1517760"/>
            <a:ext cx="1143000" cy="24120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228800" y="4309920"/>
            <a:ext cx="1877760" cy="2310120"/>
            <a:chOff x="7228800" y="4309920"/>
            <a:chExt cx="1877760" cy="2310120"/>
          </a:xfrm>
        </p:grpSpPr>
        <p:sp>
          <p:nvSpPr>
            <p:cNvPr id="334" name=""/>
            <p:cNvSpPr/>
            <p:nvPr/>
          </p:nvSpPr>
          <p:spPr>
            <a:xfrm>
              <a:off x="7232760" y="4309920"/>
              <a:ext cx="1650960" cy="2310120"/>
            </a:xfrm>
            <a:custGeom>
              <a:avLst/>
              <a:gdLst>
                <a:gd name="textAreaLeft" fmla="*/ 360 w 1650960"/>
                <a:gd name="textAreaRight" fmla="*/ 1650600 w 1650960"/>
                <a:gd name="textAreaTop" fmla="*/ 360 h 2310120"/>
                <a:gd name="textAreaBottom" fmla="*/ 2309760 h 2310120"/>
              </a:gdLst>
              <a:ahLst/>
              <a:rect l="textAreaLeft" t="textAreaTop" r="textAreaRight" b="textAreaBottom"/>
              <a:pathLst>
                <a:path w="21600" h="30222">
                  <a:moveTo>
                    <a:pt x="20" y="0"/>
                  </a:moveTo>
                  <a:arcTo wR="20" hR="20" stAng="16200000" swAng="-5400000"/>
                  <a:lnTo>
                    <a:pt x="0" y="30202"/>
                  </a:lnTo>
                  <a:arcTo wR="20" hR="20" stAng="10800000" swAng="-5400000"/>
                  <a:lnTo>
                    <a:pt x="21580" y="30222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33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981080" y="3352680"/>
            <a:ext cx="457200" cy="534960"/>
            <a:chOff x="1981080" y="3352680"/>
            <a:chExt cx="457200" cy="534960"/>
          </a:xfrm>
        </p:grpSpPr>
        <p:sp>
          <p:nvSpPr>
            <p:cNvPr id="342" name=""/>
            <p:cNvSpPr/>
            <p:nvPr/>
          </p:nvSpPr>
          <p:spPr>
            <a:xfrm>
              <a:off x="1981080" y="335268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572000" y="1371600"/>
            <a:ext cx="457200" cy="534960"/>
            <a:chOff x="4572000" y="1371600"/>
            <a:chExt cx="457200" cy="534960"/>
          </a:xfrm>
        </p:grpSpPr>
        <p:sp>
          <p:nvSpPr>
            <p:cNvPr id="347" name=""/>
            <p:cNvSpPr/>
            <p:nvPr/>
          </p:nvSpPr>
          <p:spPr>
            <a:xfrm>
              <a:off x="4572000" y="137160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75320" y="1754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 flipV="1">
            <a:off x="2436840" y="1900080"/>
            <a:ext cx="2057400" cy="1533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590920" y="2738160"/>
            <a:ext cx="2209680" cy="84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914400" y="298440"/>
            <a:ext cx="7772400" cy="311040"/>
            <a:chOff x="914400" y="298440"/>
            <a:chExt cx="7772400" cy="311040"/>
          </a:xfrm>
        </p:grpSpPr>
        <p:sp>
          <p:nvSpPr>
            <p:cNvPr id="363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685360" y="2984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366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0560" y="1370160"/>
            <a:ext cx="457200" cy="534960"/>
            <a:chOff x="4570560" y="1370160"/>
            <a:chExt cx="457200" cy="534960"/>
          </a:xfrm>
        </p:grpSpPr>
        <p:sp>
          <p:nvSpPr>
            <p:cNvPr id="371" name=""/>
            <p:cNvSpPr/>
            <p:nvPr/>
          </p:nvSpPr>
          <p:spPr>
            <a:xfrm>
              <a:off x="4570560" y="13701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005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481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75320" y="17524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875120" y="2360520"/>
            <a:ext cx="457200" cy="534960"/>
            <a:chOff x="4875120" y="2360520"/>
            <a:chExt cx="457200" cy="534960"/>
          </a:xfrm>
        </p:grpSpPr>
        <p:sp>
          <p:nvSpPr>
            <p:cNvPr id="376" name=""/>
            <p:cNvSpPr/>
            <p:nvPr/>
          </p:nvSpPr>
          <p:spPr>
            <a:xfrm>
              <a:off x="4875120" y="2360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054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530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79880" y="2744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494240" y="5484960"/>
            <a:ext cx="457200" cy="534960"/>
            <a:chOff x="4494240" y="5484960"/>
            <a:chExt cx="457200" cy="534960"/>
          </a:xfrm>
        </p:grpSpPr>
        <p:sp>
          <p:nvSpPr>
            <p:cNvPr id="381" name=""/>
            <p:cNvSpPr/>
            <p:nvPr/>
          </p:nvSpPr>
          <p:spPr>
            <a:xfrm>
              <a:off x="4494240" y="54849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245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21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99000" y="58672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103720" y="3427560"/>
            <a:ext cx="457200" cy="534960"/>
            <a:chOff x="5103720" y="3427560"/>
            <a:chExt cx="457200" cy="534960"/>
          </a:xfrm>
        </p:grpSpPr>
        <p:sp>
          <p:nvSpPr>
            <p:cNvPr id="386" name=""/>
            <p:cNvSpPr/>
            <p:nvPr/>
          </p:nvSpPr>
          <p:spPr>
            <a:xfrm>
              <a:off x="5103720" y="34275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340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816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08480" y="38098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875120" y="4646520"/>
            <a:ext cx="457200" cy="534960"/>
            <a:chOff x="4875120" y="4646520"/>
            <a:chExt cx="457200" cy="534960"/>
          </a:xfrm>
        </p:grpSpPr>
        <p:sp>
          <p:nvSpPr>
            <p:cNvPr id="391" name=""/>
            <p:cNvSpPr/>
            <p:nvPr/>
          </p:nvSpPr>
          <p:spPr>
            <a:xfrm>
              <a:off x="4875120" y="4646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054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530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9880" y="5030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V="1">
            <a:off x="2436840" y="1897200"/>
            <a:ext cx="2057400" cy="153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589120" y="2736360"/>
            <a:ext cx="2210040" cy="84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9588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914400" y="298440"/>
            <a:ext cx="7772400" cy="311040"/>
            <a:chOff x="914400" y="298440"/>
            <a:chExt cx="7772400" cy="311040"/>
          </a:xfrm>
        </p:grpSpPr>
        <p:sp>
          <p:nvSpPr>
            <p:cNvPr id="406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8685360" y="2984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409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 flipV="1">
            <a:off x="2436840" y="1897200"/>
            <a:ext cx="2057400" cy="153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589120" y="2736360"/>
            <a:ext cx="2210040" cy="84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2316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14400" y="298440"/>
            <a:ext cx="7772400" cy="311040"/>
            <a:chOff x="914400" y="298440"/>
            <a:chExt cx="7772400" cy="311040"/>
          </a:xfrm>
        </p:grpSpPr>
        <p:sp>
          <p:nvSpPr>
            <p:cNvPr id="429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8685360" y="2984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V="1">
            <a:off x="2436840" y="1897200"/>
            <a:ext cx="2057400" cy="153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589120" y="2736360"/>
            <a:ext cx="2210040" cy="84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914400" y="298440"/>
            <a:ext cx="7772400" cy="311040"/>
            <a:chOff x="914400" y="298440"/>
            <a:chExt cx="7772400" cy="311040"/>
          </a:xfrm>
        </p:grpSpPr>
        <p:sp>
          <p:nvSpPr>
            <p:cNvPr id="448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685360" y="2984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1903320" y="2736360"/>
            <a:ext cx="228600" cy="924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436840" y="1136160"/>
            <a:ext cx="2514600" cy="84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1598760" y="3732120"/>
            <a:ext cx="457200" cy="534960"/>
            <a:chOff x="1598760" y="3732120"/>
            <a:chExt cx="457200" cy="534960"/>
          </a:xfrm>
        </p:grpSpPr>
        <p:sp>
          <p:nvSpPr>
            <p:cNvPr id="461" name=""/>
            <p:cNvSpPr/>
            <p:nvPr/>
          </p:nvSpPr>
          <p:spPr>
            <a:xfrm>
              <a:off x="1598760" y="37321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28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763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03520" y="41162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 flipV="1">
            <a:off x="2057400" y="3727440"/>
            <a:ext cx="3886200" cy="856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546960" y="2894040"/>
            <a:ext cx="92376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7461000" y="3046320"/>
            <a:ext cx="1616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13080" y="4417920"/>
            <a:ext cx="122868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47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3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oma struktuuriga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XML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36640" y="376200"/>
            <a:ext cx="7769160" cy="309600"/>
            <a:chOff x="836640" y="376200"/>
            <a:chExt cx="7769160" cy="309600"/>
          </a:xfrm>
        </p:grpSpPr>
        <p:sp>
          <p:nvSpPr>
            <p:cNvPr id="60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479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719680" y="4572000"/>
            <a:ext cx="452520" cy="528480"/>
            <a:chOff x="5719680" y="4572000"/>
            <a:chExt cx="452520" cy="528480"/>
          </a:xfrm>
        </p:grpSpPr>
        <p:sp>
          <p:nvSpPr>
            <p:cNvPr id="484" name=""/>
            <p:cNvSpPr/>
            <p:nvPr/>
          </p:nvSpPr>
          <p:spPr>
            <a:xfrm>
              <a:off x="5719680" y="4572000"/>
              <a:ext cx="4525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50000" y="47293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96160" y="47293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23000" y="49500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491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498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500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962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230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505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83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29560" y="351000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5640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V="1">
            <a:off x="4267080" y="4718160"/>
            <a:ext cx="2438640" cy="241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513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20728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180280" y="47973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267080" y="4030560"/>
            <a:ext cx="381240" cy="393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743200" y="5327280"/>
            <a:ext cx="533520" cy="546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52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532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486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962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21640" y="58644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539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819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295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5496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V="1">
            <a:off x="4267080" y="4714920"/>
            <a:ext cx="2438640" cy="241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547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058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78840" y="4797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4267080" y="4030560"/>
            <a:ext cx="381240" cy="393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743200" y="5327280"/>
            <a:ext cx="533520" cy="546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56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05720" y="2438280"/>
            <a:ext cx="1752480" cy="1295640"/>
            <a:chOff x="6705720" y="2438280"/>
            <a:chExt cx="1752480" cy="1295640"/>
          </a:xfrm>
        </p:grpSpPr>
        <p:sp>
          <p:nvSpPr>
            <p:cNvPr id="563" name=""/>
            <p:cNvSpPr/>
            <p:nvPr/>
          </p:nvSpPr>
          <p:spPr>
            <a:xfrm>
              <a:off x="6848640" y="27129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99520" y="28656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81920" y="25099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40520" y="3273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837560" y="283356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34200" y="29415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54800" y="3266640"/>
              <a:ext cx="16848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05720" y="24382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33520" y="3124080"/>
            <a:ext cx="1752480" cy="1295640"/>
            <a:chOff x="533520" y="3124080"/>
            <a:chExt cx="1752480" cy="1295640"/>
          </a:xfrm>
        </p:grpSpPr>
        <p:sp>
          <p:nvSpPr>
            <p:cNvPr id="572" name=""/>
            <p:cNvSpPr/>
            <p:nvPr/>
          </p:nvSpPr>
          <p:spPr>
            <a:xfrm>
              <a:off x="676440" y="33987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27320" y="35514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09720" y="31957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68320" y="39592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1665360" y="351936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62000" y="36273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182600" y="3952440"/>
              <a:ext cx="16848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31240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828800" y="5105520"/>
            <a:ext cx="1752480" cy="1295280"/>
            <a:chOff x="1828800" y="5105520"/>
            <a:chExt cx="1752480" cy="1295280"/>
          </a:xfrm>
        </p:grpSpPr>
        <p:sp>
          <p:nvSpPr>
            <p:cNvPr id="581" name=""/>
            <p:cNvSpPr/>
            <p:nvPr/>
          </p:nvSpPr>
          <p:spPr>
            <a:xfrm>
              <a:off x="1971720" y="53802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22600" y="55324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05000" y="51768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62160" y="59403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2960640" y="550080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55840" y="56088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478240" y="5933880"/>
              <a:ext cx="16812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288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733920" y="3505320"/>
            <a:ext cx="1752480" cy="1295280"/>
            <a:chOff x="3733920" y="3505320"/>
            <a:chExt cx="1752480" cy="1295280"/>
          </a:xfrm>
        </p:grpSpPr>
        <p:sp>
          <p:nvSpPr>
            <p:cNvPr id="590" name=""/>
            <p:cNvSpPr/>
            <p:nvPr/>
          </p:nvSpPr>
          <p:spPr>
            <a:xfrm>
              <a:off x="3876840" y="37800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27720" y="39322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10120" y="35766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68720" y="43401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865760" y="390060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2400" y="40086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383000" y="4333680"/>
              <a:ext cx="16848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3505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952880" y="5257800"/>
            <a:ext cx="1752840" cy="1295280"/>
            <a:chOff x="4952880" y="5257800"/>
            <a:chExt cx="1752840" cy="1295280"/>
          </a:xfrm>
        </p:grpSpPr>
        <p:sp>
          <p:nvSpPr>
            <p:cNvPr id="599" name=""/>
            <p:cNvSpPr/>
            <p:nvPr/>
          </p:nvSpPr>
          <p:spPr>
            <a:xfrm>
              <a:off x="5095800" y="5532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46680" y="5683320"/>
              <a:ext cx="289080" cy="409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29440" y="532764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89480" y="60930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84720" y="5651640"/>
              <a:ext cx="12096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81720" y="576108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602320" y="6084720"/>
              <a:ext cx="168120" cy="19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2880" y="5257800"/>
              <a:ext cx="175284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8151840" y="4800600"/>
            <a:ext cx="453960" cy="528480"/>
            <a:chOff x="8151840" y="4800600"/>
            <a:chExt cx="453960" cy="528480"/>
          </a:xfrm>
        </p:grpSpPr>
        <p:sp>
          <p:nvSpPr>
            <p:cNvPr id="609" name=""/>
            <p:cNvSpPr/>
            <p:nvPr/>
          </p:nvSpPr>
          <p:spPr>
            <a:xfrm>
              <a:off x="8151840" y="480060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83600" y="4957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29760" y="4957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14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615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0668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79680" y="29685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620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79440" y="6019920"/>
            <a:ext cx="453960" cy="528480"/>
            <a:chOff x="379440" y="6019920"/>
            <a:chExt cx="453960" cy="528480"/>
          </a:xfrm>
        </p:grpSpPr>
        <p:sp>
          <p:nvSpPr>
            <p:cNvPr id="625" name=""/>
            <p:cNvSpPr/>
            <p:nvPr/>
          </p:nvSpPr>
          <p:spPr>
            <a:xfrm>
              <a:off x="379440" y="6019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 flipV="1">
            <a:off x="1371600" y="5936760"/>
            <a:ext cx="380880" cy="165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5486400" y="4107960"/>
            <a:ext cx="2057400" cy="88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5562720" y="3117600"/>
            <a:ext cx="990360" cy="469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 flipV="1">
            <a:off x="1593720" y="4412880"/>
            <a:ext cx="317520" cy="546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575160" y="5715000"/>
            <a:ext cx="12319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2506320" y="3727440"/>
            <a:ext cx="1003320" cy="241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736720" y="4343400"/>
            <a:ext cx="92736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432160" y="2971800"/>
            <a:ext cx="77472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rbitz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innavaatl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642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64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652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92480" y="3657600"/>
            <a:ext cx="37530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38160" y="579240"/>
            <a:ext cx="7770960" cy="314280"/>
            <a:chOff x="938160" y="579240"/>
            <a:chExt cx="7770960" cy="314280"/>
          </a:xfrm>
        </p:grpSpPr>
        <p:sp>
          <p:nvSpPr>
            <p:cNvPr id="659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8707320" y="57924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29200" y="3657600"/>
            <a:ext cx="3678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29200" y="5029200"/>
            <a:ext cx="367812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re often exchanged or replac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66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938160" y="579240"/>
            <a:ext cx="7770960" cy="314280"/>
            <a:chOff x="938160" y="579240"/>
            <a:chExt cx="7770960" cy="314280"/>
          </a:xfrm>
        </p:grpSpPr>
        <p:sp>
          <p:nvSpPr>
            <p:cNvPr id="672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8707320" y="57924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8153280" y="4800600"/>
            <a:ext cx="454320" cy="528480"/>
            <a:chOff x="8153280" y="4800600"/>
            <a:chExt cx="454320" cy="528480"/>
          </a:xfrm>
        </p:grpSpPr>
        <p:sp>
          <p:nvSpPr>
            <p:cNvPr id="676" name=""/>
            <p:cNvSpPr/>
            <p:nvPr/>
          </p:nvSpPr>
          <p:spPr>
            <a:xfrm>
              <a:off x="8153280" y="480060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681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686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80880" y="6019920"/>
            <a:ext cx="454320" cy="528480"/>
            <a:chOff x="380880" y="6019920"/>
            <a:chExt cx="454320" cy="528480"/>
          </a:xfrm>
        </p:grpSpPr>
        <p:sp>
          <p:nvSpPr>
            <p:cNvPr id="691" name=""/>
            <p:cNvSpPr/>
            <p:nvPr/>
          </p:nvSpPr>
          <p:spPr>
            <a:xfrm>
              <a:off x="380880" y="601992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 flipV="1">
            <a:off x="1371600" y="5934240"/>
            <a:ext cx="380880" cy="164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486400" y="4107960"/>
            <a:ext cx="2057400" cy="88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486400" y="3193920"/>
            <a:ext cx="990720" cy="4701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1593720" y="4412880"/>
            <a:ext cx="317520" cy="546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575160" y="5715000"/>
            <a:ext cx="12319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2506320" y="3727440"/>
            <a:ext cx="1003320" cy="241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736720" y="4343400"/>
            <a:ext cx="92736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432160" y="2971800"/>
            <a:ext cx="77472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33520" y="2971800"/>
            <a:ext cx="1753920" cy="1295280"/>
            <a:chOff x="533520" y="2971800"/>
            <a:chExt cx="1753920" cy="1295280"/>
          </a:xfrm>
        </p:grpSpPr>
        <p:sp>
          <p:nvSpPr>
            <p:cNvPr id="704" name=""/>
            <p:cNvSpPr/>
            <p:nvPr/>
          </p:nvSpPr>
          <p:spPr>
            <a:xfrm>
              <a:off x="53352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841320" y="2971800"/>
              <a:ext cx="1216080" cy="1143000"/>
              <a:chOff x="841320" y="2971800"/>
              <a:chExt cx="1216080" cy="1143000"/>
            </a:xfrm>
          </p:grpSpPr>
          <p:sp>
            <p:nvSpPr>
              <p:cNvPr id="706" name=""/>
              <p:cNvSpPr/>
              <p:nvPr/>
            </p:nvSpPr>
            <p:spPr>
              <a:xfrm flipV="1">
                <a:off x="1627200" y="329580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025640" y="34034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1147680" y="3651120"/>
                <a:ext cx="168480" cy="19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9" name=""/>
              <p:cNvGrpSpPr/>
              <p:nvPr/>
            </p:nvGrpSpPr>
            <p:grpSpPr>
              <a:xfrm>
                <a:off x="1833480" y="2971800"/>
                <a:ext cx="223920" cy="457200"/>
                <a:chOff x="1833480" y="2971800"/>
                <a:chExt cx="223920" cy="4572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833480" y="2971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897200" y="3106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969920" y="3106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84240" y="3298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1376280" y="3200400"/>
                <a:ext cx="223920" cy="457200"/>
                <a:chOff x="1376280" y="3200400"/>
                <a:chExt cx="223920" cy="45720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1376280" y="32004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40000" y="33354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12720" y="33354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27040" y="35272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841320" y="3044880"/>
                <a:ext cx="223920" cy="457200"/>
                <a:chOff x="841320" y="3044880"/>
                <a:chExt cx="223920" cy="45720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841320" y="30448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905040" y="31798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976320" y="31798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92080" y="33703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919080" y="3657600"/>
                <a:ext cx="223920" cy="457200"/>
                <a:chOff x="919080" y="3657600"/>
                <a:chExt cx="223920" cy="4572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919080" y="3657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982800" y="3792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055520" y="37926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969840" y="39844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9" name=""/>
            <p:cNvSpPr/>
            <p:nvPr/>
          </p:nvSpPr>
          <p:spPr>
            <a:xfrm>
              <a:off x="53496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676520" y="5029200"/>
            <a:ext cx="1752480" cy="1295280"/>
            <a:chOff x="1676520" y="5029200"/>
            <a:chExt cx="1752480" cy="1295280"/>
          </a:xfrm>
        </p:grpSpPr>
        <p:sp>
          <p:nvSpPr>
            <p:cNvPr id="731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984320" y="5029200"/>
              <a:ext cx="1216080" cy="1143000"/>
              <a:chOff x="1984320" y="5029200"/>
              <a:chExt cx="1216080" cy="1143000"/>
            </a:xfrm>
          </p:grpSpPr>
          <p:sp>
            <p:nvSpPr>
              <p:cNvPr id="733" name=""/>
              <p:cNvSpPr/>
              <p:nvPr/>
            </p:nvSpPr>
            <p:spPr>
              <a:xfrm flipV="1">
                <a:off x="2770200" y="535320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1686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2290680" y="5708520"/>
                <a:ext cx="168480" cy="19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2976480" y="5029200"/>
                <a:ext cx="223920" cy="457200"/>
                <a:chOff x="2976480" y="5029200"/>
                <a:chExt cx="223920" cy="45720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9764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40200" y="5164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112920" y="51642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272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519280" y="5257800"/>
                <a:ext cx="223920" cy="457200"/>
                <a:chOff x="2519280" y="5257800"/>
                <a:chExt cx="223920" cy="4572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25192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583000" y="5392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655720" y="5392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5700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1984320" y="5102280"/>
                <a:ext cx="223920" cy="457200"/>
                <a:chOff x="1984320" y="5102280"/>
                <a:chExt cx="223920" cy="4572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1984320" y="51022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048040" y="52372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2119320" y="52372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20336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2062080" y="5715000"/>
                <a:ext cx="223920" cy="457200"/>
                <a:chOff x="2062080" y="5715000"/>
                <a:chExt cx="223920" cy="45720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20620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125800" y="58500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198520" y="58500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1128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6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758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760" name=""/>
              <p:cNvSpPr/>
              <p:nvPr/>
            </p:nvSpPr>
            <p:spPr>
              <a:xfrm flipV="1">
                <a:off x="4751280" y="405756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272120" y="4411440"/>
                <a:ext cx="168120" cy="190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3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5029200" y="5105520"/>
            <a:ext cx="1752480" cy="1295280"/>
            <a:chOff x="5029200" y="5105520"/>
            <a:chExt cx="1752480" cy="1295280"/>
          </a:xfrm>
        </p:grpSpPr>
        <p:sp>
          <p:nvSpPr>
            <p:cNvPr id="785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5335560" y="5105520"/>
              <a:ext cx="1217520" cy="1143000"/>
              <a:chOff x="5335560" y="5105520"/>
              <a:chExt cx="1217520" cy="1143000"/>
            </a:xfrm>
          </p:grpSpPr>
          <p:sp>
            <p:nvSpPr>
              <p:cNvPr id="787" name=""/>
              <p:cNvSpPr/>
              <p:nvPr/>
            </p:nvSpPr>
            <p:spPr>
              <a:xfrm flipV="1">
                <a:off x="6122880" y="542916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521320" y="55371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5643720" y="5783040"/>
                <a:ext cx="168120" cy="190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"/>
              <p:cNvGrpSpPr/>
              <p:nvPr/>
            </p:nvGrpSpPr>
            <p:grpSpPr>
              <a:xfrm>
                <a:off x="6329520" y="5105520"/>
                <a:ext cx="223560" cy="457200"/>
                <a:chOff x="6329520" y="5105520"/>
                <a:chExt cx="223560" cy="4572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6329520" y="5105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392880" y="5238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465960" y="5238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380280" y="5432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5872320" y="5334120"/>
                <a:ext cx="223560" cy="457200"/>
                <a:chOff x="5872320" y="5334120"/>
                <a:chExt cx="223560" cy="45720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872320" y="53341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935680" y="54673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008760" y="54673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923080" y="5661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5335560" y="5176800"/>
                <a:ext cx="223920" cy="457200"/>
                <a:chOff x="5335560" y="5176800"/>
                <a:chExt cx="223920" cy="4572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335560" y="5176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400720" y="5311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473800" y="53118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86320" y="55040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5415120" y="5791320"/>
                <a:ext cx="223560" cy="457200"/>
                <a:chOff x="5415120" y="5791320"/>
                <a:chExt cx="223560" cy="45720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5415120" y="57913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478480" y="59245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51560" y="59245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465880" y="6118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0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812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814" name=""/>
              <p:cNvSpPr/>
              <p:nvPr/>
            </p:nvSpPr>
            <p:spPr>
              <a:xfrm flipV="1">
                <a:off x="4751280" y="405756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4272120" y="4411440"/>
                <a:ext cx="168120" cy="190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7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6477120" y="2362320"/>
            <a:ext cx="1752480" cy="1295280"/>
            <a:chOff x="6477120" y="2362320"/>
            <a:chExt cx="1752480" cy="1295280"/>
          </a:xfrm>
        </p:grpSpPr>
        <p:sp>
          <p:nvSpPr>
            <p:cNvPr id="839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6784920" y="2362320"/>
              <a:ext cx="1216080" cy="1143000"/>
              <a:chOff x="6784920" y="2362320"/>
              <a:chExt cx="1216080" cy="1143000"/>
            </a:xfrm>
          </p:grpSpPr>
          <p:sp>
            <p:nvSpPr>
              <p:cNvPr id="841" name=""/>
              <p:cNvSpPr/>
              <p:nvPr/>
            </p:nvSpPr>
            <p:spPr>
              <a:xfrm flipV="1">
                <a:off x="7570800" y="268596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969240" y="27939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7091280" y="3039840"/>
                <a:ext cx="168480" cy="190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4" name=""/>
              <p:cNvGrpSpPr/>
              <p:nvPr/>
            </p:nvGrpSpPr>
            <p:grpSpPr>
              <a:xfrm>
                <a:off x="7777080" y="2362320"/>
                <a:ext cx="223920" cy="457200"/>
                <a:chOff x="7777080" y="2362320"/>
                <a:chExt cx="223920" cy="45720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777080" y="23623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840800" y="24955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913520" y="24955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827840" y="2689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7319880" y="2590920"/>
                <a:ext cx="223920" cy="457200"/>
                <a:chOff x="7319880" y="2590920"/>
                <a:chExt cx="223920" cy="45720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7319880" y="25909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7383600" y="27241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456320" y="2724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370640" y="2917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6784920" y="2433600"/>
                <a:ext cx="223920" cy="457200"/>
                <a:chOff x="6784920" y="2433600"/>
                <a:chExt cx="223920" cy="45720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6784920" y="2433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848640" y="2568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919920" y="256860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834240" y="27608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862680" y="3048120"/>
                <a:ext cx="223920" cy="457200"/>
                <a:chOff x="6862680" y="3048120"/>
                <a:chExt cx="223920" cy="4572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862680" y="30481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926400" y="31813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999120" y="31813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913440" y="3375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4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6640" y="376200"/>
            <a:ext cx="7769160" cy="309600"/>
            <a:chOff x="836640" y="376200"/>
            <a:chExt cx="7769160" cy="309600"/>
          </a:xfrm>
        </p:grpSpPr>
        <p:sp>
          <p:nvSpPr>
            <p:cNvPr id="65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936720" y="576000"/>
            <a:ext cx="7772400" cy="314280"/>
            <a:chOff x="936720" y="576000"/>
            <a:chExt cx="7772400" cy="314280"/>
          </a:xfrm>
        </p:grpSpPr>
        <p:sp>
          <p:nvSpPr>
            <p:cNvPr id="868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707320" y="57600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8153280" y="4799160"/>
            <a:ext cx="454320" cy="529920"/>
            <a:chOff x="8153280" y="4799160"/>
            <a:chExt cx="454320" cy="529920"/>
          </a:xfrm>
        </p:grpSpPr>
        <p:sp>
          <p:nvSpPr>
            <p:cNvPr id="872" name=""/>
            <p:cNvSpPr/>
            <p:nvPr/>
          </p:nvSpPr>
          <p:spPr>
            <a:xfrm>
              <a:off x="8153280" y="4799160"/>
              <a:ext cx="454320" cy="52992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877" name=""/>
          <p:cNvGrpSpPr/>
          <p:nvPr/>
        </p:nvGrpSpPr>
        <p:grpSpPr>
          <a:xfrm>
            <a:off x="3276720" y="2590920"/>
            <a:ext cx="453960" cy="530280"/>
            <a:chOff x="3276720" y="2590920"/>
            <a:chExt cx="453960" cy="530280"/>
          </a:xfrm>
        </p:grpSpPr>
        <p:sp>
          <p:nvSpPr>
            <p:cNvPr id="878" name=""/>
            <p:cNvSpPr/>
            <p:nvPr/>
          </p:nvSpPr>
          <p:spPr>
            <a:xfrm>
              <a:off x="3276720" y="2590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8228160" y="3733920"/>
            <a:ext cx="453960" cy="530280"/>
            <a:chOff x="8228160" y="3733920"/>
            <a:chExt cx="453960" cy="530280"/>
          </a:xfrm>
        </p:grpSpPr>
        <p:sp>
          <p:nvSpPr>
            <p:cNvPr id="883" name=""/>
            <p:cNvSpPr/>
            <p:nvPr/>
          </p:nvSpPr>
          <p:spPr>
            <a:xfrm>
              <a:off x="8228160" y="3733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3581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3311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80880" y="6019920"/>
            <a:ext cx="454320" cy="530280"/>
            <a:chOff x="380880" y="6019920"/>
            <a:chExt cx="454320" cy="530280"/>
          </a:xfrm>
        </p:grpSpPr>
        <p:sp>
          <p:nvSpPr>
            <p:cNvPr id="888" name=""/>
            <p:cNvSpPr/>
            <p:nvPr/>
          </p:nvSpPr>
          <p:spPr>
            <a:xfrm>
              <a:off x="380880" y="6019920"/>
              <a:ext cx="45432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2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 flipV="1">
            <a:off x="1371600" y="5934240"/>
            <a:ext cx="380880" cy="164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5486400" y="4105080"/>
            <a:ext cx="2057400" cy="90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5486400" y="3193920"/>
            <a:ext cx="990720" cy="4701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1592280" y="4412880"/>
            <a:ext cx="318960" cy="546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3575160" y="5715000"/>
            <a:ext cx="12319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2506320" y="3724200"/>
            <a:ext cx="1003320" cy="241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736720" y="4341960"/>
            <a:ext cx="92736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2430000" y="2970360"/>
            <a:ext cx="77652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4878360" y="5257800"/>
            <a:ext cx="1752480" cy="1295280"/>
            <a:chOff x="4878360" y="5257800"/>
            <a:chExt cx="1752480" cy="1295280"/>
          </a:xfrm>
        </p:grpSpPr>
        <p:sp>
          <p:nvSpPr>
            <p:cNvPr id="903" name=""/>
            <p:cNvSpPr/>
            <p:nvPr/>
          </p:nvSpPr>
          <p:spPr>
            <a:xfrm>
              <a:off x="5106960" y="60451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045040" y="55389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78360" y="5257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5892840" y="563256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89480" y="57420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5413320" y="5987880"/>
              <a:ext cx="168480" cy="19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6097680" y="5308560"/>
              <a:ext cx="225360" cy="457200"/>
              <a:chOff x="6097680" y="5308560"/>
              <a:chExt cx="225360" cy="457200"/>
            </a:xfrm>
          </p:grpSpPr>
          <p:sp>
            <p:nvSpPr>
              <p:cNvPr id="910" name=""/>
              <p:cNvSpPr/>
              <p:nvPr/>
            </p:nvSpPr>
            <p:spPr>
              <a:xfrm>
                <a:off x="609768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162840" y="54435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23556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4844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5640480" y="5537160"/>
              <a:ext cx="225360" cy="457200"/>
              <a:chOff x="5640480" y="5537160"/>
              <a:chExt cx="225360" cy="457200"/>
            </a:xfrm>
          </p:grpSpPr>
          <p:sp>
            <p:nvSpPr>
              <p:cNvPr id="915" name=""/>
              <p:cNvSpPr/>
              <p:nvPr/>
            </p:nvSpPr>
            <p:spPr>
              <a:xfrm>
                <a:off x="5640480" y="55371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05640" y="5672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778360" y="56721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691240" y="58644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534960" y="2820960"/>
            <a:ext cx="1752480" cy="1295280"/>
            <a:chOff x="534960" y="2820960"/>
            <a:chExt cx="1752480" cy="1295280"/>
          </a:xfrm>
        </p:grpSpPr>
        <p:sp>
          <p:nvSpPr>
            <p:cNvPr id="920" name=""/>
            <p:cNvSpPr/>
            <p:nvPr/>
          </p:nvSpPr>
          <p:spPr>
            <a:xfrm>
              <a:off x="763560" y="36082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01640" y="31003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4960" y="28209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1549440" y="319572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46080" y="33037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1069920" y="3551040"/>
              <a:ext cx="16848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1754280" y="2871720"/>
              <a:ext cx="225360" cy="457200"/>
              <a:chOff x="1754280" y="2871720"/>
              <a:chExt cx="225360" cy="457200"/>
            </a:xfrm>
          </p:grpSpPr>
          <p:sp>
            <p:nvSpPr>
              <p:cNvPr id="927" name=""/>
              <p:cNvSpPr/>
              <p:nvPr/>
            </p:nvSpPr>
            <p:spPr>
              <a:xfrm>
                <a:off x="1754280" y="28717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819440" y="300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892160" y="30067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805040" y="31989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1297080" y="3100320"/>
              <a:ext cx="225360" cy="457200"/>
              <a:chOff x="1297080" y="3100320"/>
              <a:chExt cx="225360" cy="457200"/>
            </a:xfrm>
          </p:grpSpPr>
          <p:sp>
            <p:nvSpPr>
              <p:cNvPr id="932" name=""/>
              <p:cNvSpPr/>
              <p:nvPr/>
            </p:nvSpPr>
            <p:spPr>
              <a:xfrm>
                <a:off x="1297080" y="31003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362240" y="32353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434960" y="32353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347840" y="34275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6" name=""/>
          <p:cNvGrpSpPr/>
          <p:nvPr/>
        </p:nvGrpSpPr>
        <p:grpSpPr>
          <a:xfrm>
            <a:off x="1828800" y="5029200"/>
            <a:ext cx="1752480" cy="1295280"/>
            <a:chOff x="1828800" y="5029200"/>
            <a:chExt cx="1752480" cy="1295280"/>
          </a:xfrm>
        </p:grpSpPr>
        <p:sp>
          <p:nvSpPr>
            <p:cNvPr id="937" name=""/>
            <p:cNvSpPr/>
            <p:nvPr/>
          </p:nvSpPr>
          <p:spPr>
            <a:xfrm>
              <a:off x="2057400" y="58165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996920" y="53103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2880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843280" y="540396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241720" y="55134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2363760" y="5759280"/>
              <a:ext cx="168480" cy="19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3049560" y="5079960"/>
              <a:ext cx="225360" cy="457200"/>
              <a:chOff x="3049560" y="5079960"/>
              <a:chExt cx="225360" cy="457200"/>
            </a:xfrm>
          </p:grpSpPr>
          <p:sp>
            <p:nvSpPr>
              <p:cNvPr id="944" name=""/>
              <p:cNvSpPr/>
              <p:nvPr/>
            </p:nvSpPr>
            <p:spPr>
              <a:xfrm>
                <a:off x="3049560" y="5079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11292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18600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00320" y="5407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2592360" y="5308560"/>
              <a:ext cx="225360" cy="457200"/>
              <a:chOff x="2592360" y="5308560"/>
              <a:chExt cx="225360" cy="457200"/>
            </a:xfrm>
          </p:grpSpPr>
          <p:sp>
            <p:nvSpPr>
              <p:cNvPr id="949" name=""/>
              <p:cNvSpPr/>
              <p:nvPr/>
            </p:nvSpPr>
            <p:spPr>
              <a:xfrm>
                <a:off x="259236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65572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72880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4312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3657600" y="3506760"/>
            <a:ext cx="1752480" cy="1295280"/>
            <a:chOff x="3657600" y="3506760"/>
            <a:chExt cx="1752480" cy="1295280"/>
          </a:xfrm>
        </p:grpSpPr>
        <p:sp>
          <p:nvSpPr>
            <p:cNvPr id="954" name=""/>
            <p:cNvSpPr/>
            <p:nvPr/>
          </p:nvSpPr>
          <p:spPr>
            <a:xfrm>
              <a:off x="3886200" y="42940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825720" y="37861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657600" y="35067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4672080" y="388152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70520" y="39895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192560" y="4236840"/>
              <a:ext cx="16848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4878360" y="3557520"/>
              <a:ext cx="225360" cy="457200"/>
              <a:chOff x="4878360" y="3557520"/>
              <a:chExt cx="225360" cy="457200"/>
            </a:xfrm>
          </p:grpSpPr>
          <p:sp>
            <p:nvSpPr>
              <p:cNvPr id="961" name=""/>
              <p:cNvSpPr/>
              <p:nvPr/>
            </p:nvSpPr>
            <p:spPr>
              <a:xfrm>
                <a:off x="4878360" y="35575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94172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01480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929120" y="38847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4421160" y="3786120"/>
              <a:ext cx="225360" cy="457200"/>
              <a:chOff x="4421160" y="3786120"/>
              <a:chExt cx="225360" cy="457200"/>
            </a:xfrm>
          </p:grpSpPr>
          <p:sp>
            <p:nvSpPr>
              <p:cNvPr id="966" name=""/>
              <p:cNvSpPr/>
              <p:nvPr/>
            </p:nvSpPr>
            <p:spPr>
              <a:xfrm>
                <a:off x="4421160" y="37861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48452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55760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71920" y="41133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6478560" y="2514600"/>
            <a:ext cx="1752480" cy="1295280"/>
            <a:chOff x="6478560" y="2514600"/>
            <a:chExt cx="1752480" cy="1295280"/>
          </a:xfrm>
        </p:grpSpPr>
        <p:sp>
          <p:nvSpPr>
            <p:cNvPr id="971" name=""/>
            <p:cNvSpPr/>
            <p:nvPr/>
          </p:nvSpPr>
          <p:spPr>
            <a:xfrm>
              <a:off x="6707160" y="33019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645240" y="27957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78560" y="25146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7493040" y="288936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89680" y="29988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7013520" y="3244680"/>
              <a:ext cx="168480" cy="19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7697880" y="2565360"/>
              <a:ext cx="225360" cy="457200"/>
              <a:chOff x="7697880" y="2565360"/>
              <a:chExt cx="225360" cy="457200"/>
            </a:xfrm>
          </p:grpSpPr>
          <p:sp>
            <p:nvSpPr>
              <p:cNvPr id="978" name=""/>
              <p:cNvSpPr/>
              <p:nvPr/>
            </p:nvSpPr>
            <p:spPr>
              <a:xfrm>
                <a:off x="7697880" y="25653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763040" y="27003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835760" y="27003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748640" y="28926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7240680" y="2793960"/>
              <a:ext cx="225360" cy="457200"/>
              <a:chOff x="7240680" y="2793960"/>
              <a:chExt cx="225360" cy="457200"/>
            </a:xfrm>
          </p:grpSpPr>
          <p:sp>
            <p:nvSpPr>
              <p:cNvPr id="983" name=""/>
              <p:cNvSpPr/>
              <p:nvPr/>
            </p:nvSpPr>
            <p:spPr>
              <a:xfrm>
                <a:off x="7240680" y="2793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305840" y="29289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378560" y="2928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291440" y="3121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emantics or meaning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tgenstein: meaning is us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utnam: meaning is a social constructi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99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Intelligence, communication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63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velopment of specie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munication before intelligenc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fficient communication impossible without abstraction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 other word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lligence is born of (a by-product of?) commun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938160" y="579240"/>
            <a:ext cx="7770960" cy="314280"/>
            <a:chOff x="938160" y="579240"/>
            <a:chExt cx="7770960" cy="314280"/>
          </a:xfrm>
        </p:grpSpPr>
        <p:sp>
          <p:nvSpPr>
            <p:cNvPr id="995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8707320" y="57924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society is a large animal 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just lik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very bright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communicative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38160" y="579240"/>
            <a:ext cx="7770960" cy="314280"/>
            <a:chOff x="938160" y="579240"/>
            <a:chExt cx="7770960" cy="314280"/>
          </a:xfrm>
        </p:grpSpPr>
        <p:sp>
          <p:nvSpPr>
            <p:cNvPr id="1000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8707320" y="57924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936720" y="576000"/>
            <a:ext cx="7772400" cy="314280"/>
            <a:chOff x="936720" y="576000"/>
            <a:chExt cx="7772400" cy="314280"/>
          </a:xfrm>
        </p:grpSpPr>
        <p:sp>
          <p:nvSpPr>
            <p:cNvPr id="1005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8707320" y="57600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ja millal on vabavara mõistlik kasutad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vabavara on endaga kaasa too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01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ideoloog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ba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ekundaarne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suta kättesaad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tahab olla vaba, on loomu poolest vaba - teadmiste ja tarkvara kopeerimine laiendab ühiskonna majanduslikku võimsust, kaotajaid (rumalamaks jääjaid) po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01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 kui tüüp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atame eraldi GPL ja LGPL 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02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 on väga keerulised süsteemid, ja nende ühendamine tähendab nö tavapärast 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6640" y="376200"/>
            <a:ext cx="7769160" cy="309600"/>
            <a:chOff x="836640" y="376200"/>
            <a:chExt cx="7769160" cy="309600"/>
          </a:xfrm>
        </p:grpSpPr>
        <p:sp>
          <p:nvSpPr>
            <p:cNvPr id="70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6640" y="376200"/>
            <a:ext cx="7769160" cy="309600"/>
            <a:chOff x="836640" y="376200"/>
            <a:chExt cx="7769160" cy="309600"/>
          </a:xfrm>
        </p:grpSpPr>
        <p:sp>
          <p:nvSpPr>
            <p:cNvPr id="75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steemide arhitektuur ja pere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8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harilik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8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277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u teel. 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9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No Slide Title</dc:title>
</cp:coreProperties>
</file>